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868-B6B7-46DA-BEFD-97106EB76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DAD-F007-4403-9940-EE896EAD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104-9E32-412D-8C97-E1C4724E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AABC-957A-44E1-8895-DDF95D24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4A04-75C7-4B83-91B8-2D4F8715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6ACA-818D-4267-9D23-E2A930C3C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99D2-535D-4DF4-95E4-7E811C72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F75-F62A-4B38-97C5-A405A6D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494-9A7F-4273-AE37-1774BA1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3D1-578C-4EE5-BCB1-3C0A2338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A45-D5F7-4667-94EB-4B7D240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3BB5-D439-449B-80E8-BEAF2722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019-DB97-4A58-8B02-105F18C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A75C-0FC7-4C77-9119-0F5F3EB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E535-52C9-40DE-8A7F-3BA9753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893-C864-498F-B544-910A00F5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2E1-619A-47B3-9ED2-D447EAE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3CB8-7482-4357-AC3E-1A6FACE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C9B-5519-40A3-94B8-0650E6BE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C780-95E3-44D9-B5A6-A6A28F9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4372-3A4A-4F5D-A376-5C5712B9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9EEE-7623-4E1D-A36B-B34876A7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A990-E2EC-49A0-A4C2-D6285433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1783-8547-46CD-8E11-931BCF26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9E9AF-098E-467F-BE21-24E51536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3CEC-C154-48F6-BBB9-AD3A66E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2C6D-62F3-4C45-B25A-46EB04B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740D-6D9F-4D67-8CC0-190BE382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51FA-66D5-4632-BCE0-18D2FE9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A40-6771-4137-A988-EA85AFFE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F7A4-50E1-4711-BC80-3628BC14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1F02-B3B2-4329-926B-7F46FF0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644A-C8DE-47DC-BEF3-0814141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7EFC7-DD53-43F1-8ABE-74B0C085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0E73-70BE-45F3-9810-8C13B5AE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692F-4F29-420A-BAC7-48A389E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31D7-E19D-4810-A927-FE5BF20F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9D55-26C8-49E0-8B1E-0B62D222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EF86-A11D-4AFF-9EAF-32C4DA6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CFDF-0CF6-4947-B25E-EFCA7C8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9DD-0EC9-424A-9539-EA0F929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185C-24A4-418B-B9F4-45CA781F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B5A3-44B9-4747-9386-32AA223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D2652-38D1-4DC1-B778-A78BA554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D4D7-079D-4347-A583-22D6CBF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9160-E3E5-4916-8215-17408C9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06AE-FB5F-4BD0-9ED8-C3A7539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6F8B-26F2-41BA-9396-7B5BC6B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619C-69E7-4BD7-AB53-9229043A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DDDF-0BA0-48C7-BC61-D476FC84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E553-9FBA-47B5-A334-14AA3370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A89-FEDD-4D2D-81B6-3C789F8A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3D4CA-1BFF-49F4-9956-F020BC69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B585-9C8E-4106-9944-AF6AFC7D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A843-171F-4939-AEEF-04461A5A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047B3-25A9-4F6C-80F4-5524B38A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AD9D-405A-4F0D-A13E-8B7A375F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72010-D26E-48A6-B7D6-AF18D9B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CE81-E95F-4760-A931-870EDA1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D1F7-DBE0-4C6E-B63B-FB9A5D6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8EBB-F59D-48E8-98A8-5E24360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B33B-1399-4D33-9F1A-B4E1154D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8F3-95EA-4A84-B722-F0DA6AD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C924-9A9A-4217-911E-74449364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C6D4-2575-4643-86FD-EA117414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198BD-C6D2-4841-82CF-0EF0D78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0076-D533-4747-8536-060EBD3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D8B3-CDE6-4B4C-BE1E-0A13F7A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5625-64F8-4A84-9F24-E9A4B940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7CC19-5DE2-47A9-BF77-DA9FAB1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33A8-54CB-4EBB-9799-B4867E9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DFB7-5E9E-41E8-8612-60AEA6F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34C6-EA41-4030-8ECD-64FFEF8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43A-FFEB-4361-A08B-12F9855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2043-BB26-4A40-BA59-F92F766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2D31-C374-418E-8A94-85EBC78F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8FFBF-B8D1-4ABB-B13C-3573A554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456-1457-45B5-BDBE-1C82B1C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BD3-C037-4B03-A4B5-6739333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2BD-969E-45F2-8168-7DF3FCEC9E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FB23-2F43-46B9-B25D-473B3C35554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08A-ABC2-4CD0-89C6-6EE910A762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85B-D4EA-4D5F-8258-B2C3DD415BF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2E2B-C5D9-4FD8-B1EC-BAA11ADDB5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B62-FCC5-4DF1-8711-A1EDCC2191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bdbfa"/>
                </a:solidFill>
                <a:latin typeface="Constantia"/>
              </a:rPr>
              <a:t>Por: Mikayla Tirabassi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Picture 3" descr="Picture1.jpg"/>
          <p:cNvPicPr/>
          <p:nvPr/>
        </p:nvPicPr>
        <p:blipFill>
          <a:blip r:embed="rId2"/>
          <a:stretch/>
        </p:blipFill>
        <p:spPr>
          <a:xfrm>
            <a:off x="2514600" y="3733920"/>
            <a:ext cx="4343400" cy="289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1de1"/>
                </a:solidFill>
                <a:latin typeface="Calibri"/>
              </a:rPr>
              <a:t>Punta Can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En el punta cana y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aloje en el Dream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Palm Beach Punt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Cana – luxary al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inclusive. Es mu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simpatica, bonita,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grande. En el hotel hay es u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grande piscina, que yo nado 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mucho. En punta can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es hace calor mucho, 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hace sol. Fui con m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madre, mi amiga Nina, y m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hermana. Yo soy es mu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1de1"/>
                </a:solidFill>
                <a:latin typeface="Book Antiqua"/>
              </a:rPr>
              <a:t>Contenta fuimos punta cana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6" descr="Exterior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La play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Querido mi padr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unta cana es muy divertido!!!! 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uy hace calor. Fui la pl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ucho! En la playa, nade en e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ar. Mi amiga y yo jugamos  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las olas. Lleve la crem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rotectora por que much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hace sol. Traje la toella d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playa,las gafas de sol, y el rosa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traje de bano.hasta luego! U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abrazo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ff00"/>
                </a:solidFill>
                <a:latin typeface="Book Antiqua"/>
              </a:rPr>
              <a:t>Mikayla Tirabass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7" descr="beach"/>
          <p:cNvPicPr/>
          <p:nvPr/>
        </p:nvPicPr>
        <p:blipFill>
          <a:blip r:embed="rId1"/>
          <a:stretch/>
        </p:blipFill>
        <p:spPr>
          <a:xfrm>
            <a:off x="5410080" y="2133720"/>
            <a:ext cx="3024360" cy="3200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Calibri"/>
              </a:rPr>
              <a:t>Buce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Querido la Amiga Jes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Como esta? Yo es muy bien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Estoy muy ocupado. Buc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ucho! B</a:t>
            </a: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uceo es divertid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Cuando practique buceo mi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ucho bonita pescado. Buc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a veces puede dar miedo po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que también a veces mi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tiburones. Buceo requiere much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equipo.  Un fuerte</a:t>
            </a: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 abrazo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 Antiqua"/>
                <a:ea typeface="바탕"/>
              </a:rPr>
              <a:t>Mikayla Tirabass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7" descr="snorling"/>
          <p:cNvPicPr/>
          <p:nvPr/>
        </p:nvPicPr>
        <p:blipFill>
          <a:blip r:embed="rId1"/>
          <a:stretch/>
        </p:blipFill>
        <p:spPr>
          <a:xfrm>
            <a:off x="5334120" y="2362320"/>
            <a:ext cx="3124080" cy="294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00cc"/>
                </a:solidFill>
                <a:latin typeface="Calibri"/>
              </a:rPr>
              <a:t>La plancha de vel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Querida es la abuel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Hola! Como esta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Espero que bien. En Punta Cana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tengo hecho mucho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Actividades. 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Uno de mi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favorito es la planch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e vela. La plancha de ve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es muy dificil,pero es mu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ivertido. La plancha de ve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depende en el tiempo. Tiene qu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ser con mucho viento. Tambien 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plancha de vela requiere much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precaucion. Por que puedes sali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Herido.</a:t>
            </a:r>
            <a:r>
              <a:rPr b="0" lang="en-US" sz="1600" spc="-1" strike="noStrike">
                <a:solidFill>
                  <a:srgbClr val="9900cc"/>
                </a:solidFill>
                <a:latin typeface="Book Antiqua"/>
              </a:rPr>
              <a:t> T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ambién hay que usar un poco de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equipo. Manana voy de compra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con my amiga Nina. Hasta luego! Besos 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abrazos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                                    </a:t>
            </a:r>
            <a:r>
              <a:rPr b="0" lang="es-ES" sz="1600" spc="-1" strike="noStrike">
                <a:solidFill>
                  <a:srgbClr val="9900cc"/>
                </a:solidFill>
                <a:latin typeface="Book Antiqua"/>
              </a:rPr>
              <a:t>Mikayla Tirabass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Picture 15" descr="02101551"/>
          <p:cNvPicPr/>
          <p:nvPr/>
        </p:nvPicPr>
        <p:blipFill>
          <a:blip r:embed="rId1"/>
          <a:stretch/>
        </p:blipFill>
        <p:spPr>
          <a:xfrm>
            <a:off x="4952880" y="2133720"/>
            <a:ext cx="3810240" cy="2976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600"/>
                </a:solidFill>
                <a:latin typeface="Calibri"/>
              </a:rPr>
              <a:t>La tiend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Querido ethan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Hola! Como esta! Ho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Fui compras con mi amiga Nina po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ok Antiqua"/>
              </a:rPr>
              <a:t>que lluvia. En la tienda  </a:t>
            </a: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estaba lle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de  gente.Compro la rosada  camisa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la blue  jeans, y una negro falda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Pasé alrededor de 50 dólares.M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amiga la misma camisa excepto e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negro. Después fuimos a u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Restaurante. La comida era mu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bien.  Mi y Nina habia un divertid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dia!       Hasta luego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      </a:t>
            </a:r>
            <a:r>
              <a:rPr b="0" lang="es-ES" sz="1600" spc="-1" strike="noStrike">
                <a:solidFill>
                  <a:srgbClr val="ff6600"/>
                </a:solidFill>
                <a:latin typeface="Book Antiqua"/>
              </a:rPr>
              <a:t>Mikayla Tirabass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dalian_large_shopping_mall_2005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45Z</dcterms:created>
  <dc:creator>tirabassimik</dc:creator>
  <dc:description/>
  <dc:language>en-US</dc:language>
  <cp:lastModifiedBy>Rick</cp:lastModifiedBy>
  <dcterms:modified xsi:type="dcterms:W3CDTF">2011-12-01T23:53:13Z</dcterms:modified>
  <cp:revision>21</cp:revision>
  <dc:subject/>
  <dc:title>Mi dream vacaion</dc:title>
</cp:coreProperties>
</file>